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9B1-3516-4277-8999-BBE8DC18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335-5147-44AE-A2D2-C866D0FF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F21-5971-4D27-AD79-F1256485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6FE-7CE2-4E67-ABAD-4DC384C1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11B6-9A4D-4D32-97B8-B3D5EFAD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6BBF-1294-4675-9FD7-7E18EAD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A51-7732-4438-85F8-67F9591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853-0B34-4754-97F7-B4E685A9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21A-DE6C-4103-B96F-B6A5C0D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6BC8-0013-404B-BC9C-CE04456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ADA1-8879-48EF-BFBD-0D778001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94F-0A99-4179-935B-C33F3148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682-179F-46F9-A7A3-E5AE56F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F02-CD3B-40E6-9EDF-313DBBC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53EC-422B-4DB7-A9E1-91B0326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B4A-BAB9-4A46-BD41-6BEB59F5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6590-83B3-481B-8CDC-0C1097B2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1ED-4783-4524-BCB8-463C3E4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BEB-3593-433D-9B93-E09DB55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F27-27CE-4D20-BF4A-E5A4225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1CA-A2CE-4B83-BE4F-AC9540F4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C0C-1F28-441D-9DD3-4B64226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310-C29A-4296-BC28-0D5BC83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BA8-1EE3-4638-8BE3-D2264710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22400" y="131760"/>
              <a:ext cx="70956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240" y="2817720"/>
              <a:ext cx="733320" cy="9810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6320" y="2073240"/>
              <a:ext cx="990360" cy="5889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12068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53920" y="700200"/>
              <a:ext cx="81288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728640" y="372096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57080" y="4578480"/>
              <a:ext cx="70992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7760" y="3873600"/>
              <a:ext cx="649440" cy="9856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70120" y="-20520"/>
              <a:ext cx="696600" cy="6285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-17640" y="4954680"/>
              <a:ext cx="81468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03360" y="5497560"/>
              <a:ext cx="81252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19240" y="6075360"/>
              <a:ext cx="81432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-4680" y="5935680"/>
              <a:ext cx="534960" cy="5634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62080" y="6311880"/>
              <a:ext cx="676080" cy="5414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8486-17C7-4A8B-AB0F-C1EDFA71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59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122400" y="131760"/>
              <a:ext cx="70956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30240" y="2817720"/>
              <a:ext cx="733320" cy="9810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6320" y="2073240"/>
              <a:ext cx="990360" cy="5889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112068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853920" y="700200"/>
              <a:ext cx="81288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728640" y="372096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757080" y="4578480"/>
              <a:ext cx="70992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77760" y="3873600"/>
              <a:ext cx="649440" cy="9856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870120" y="-20520"/>
              <a:ext cx="696600" cy="6285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-17640" y="4954680"/>
              <a:ext cx="81468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603360" y="5497560"/>
              <a:ext cx="81252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1119240" y="6075360"/>
              <a:ext cx="81432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4680" y="5935680"/>
              <a:ext cx="534960" cy="5634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62080" y="6311880"/>
              <a:ext cx="676080" cy="5414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54F-89A8-4067-9FCD-BD8B12B073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The Main Elements of Fiction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17" name="Picture 3" descr="PE00551_"/>
          <p:cNvPicPr/>
          <p:nvPr/>
        </p:nvPicPr>
        <p:blipFill>
          <a:blip r:embed="rId1"/>
          <a:stretch/>
        </p:blipFill>
        <p:spPr>
          <a:xfrm>
            <a:off x="2209680" y="2057400"/>
            <a:ext cx="4149720" cy="38149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>
            <a:hlinkClick r:id="rId2" action="ppaction://hlinksldjump"/>
          </p:cNvPr>
          <p:cNvSpPr/>
          <p:nvPr/>
        </p:nvSpPr>
        <p:spPr>
          <a:xfrm>
            <a:off x="3733920" y="2286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724280" y="21337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943600" y="25146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095880" y="32004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791320" y="4267080"/>
            <a:ext cx="1904760" cy="381240"/>
          </a:xfrm>
          <a:custGeom>
            <a:avLst/>
            <a:gdLst>
              <a:gd name="textAreaLeft" fmla="*/ 24480 w 1904760"/>
              <a:gd name="textAreaRight" fmla="*/ 1880280 w 1904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7837" h="21600">
                <a:moveTo>
                  <a:pt x="0" y="0"/>
                </a:moveTo>
                <a:lnTo>
                  <a:pt x="107837" y="0"/>
                </a:lnTo>
                <a:lnTo>
                  <a:pt x="107837" y="21600"/>
                </a:lnTo>
                <a:lnTo>
                  <a:pt x="0" y="21600"/>
                </a:lnTo>
                <a:close/>
              </a:path>
              <a:path fill="lightenLess" w="107837" h="21600">
                <a:moveTo>
                  <a:pt x="0" y="0"/>
                </a:moveTo>
                <a:lnTo>
                  <a:pt x="107837" y="0"/>
                </a:lnTo>
                <a:lnTo>
                  <a:pt x="106437" y="1400"/>
                </a:lnTo>
                <a:lnTo>
                  <a:pt x="1400" y="1400"/>
                </a:lnTo>
                <a:close/>
              </a:path>
              <a:path fill="darken" w="107837" h="21600">
                <a:moveTo>
                  <a:pt x="107837" y="0"/>
                </a:moveTo>
                <a:lnTo>
                  <a:pt x="107837" y="21600"/>
                </a:lnTo>
                <a:lnTo>
                  <a:pt x="106437" y="20200"/>
                </a:lnTo>
                <a:lnTo>
                  <a:pt x="106437" y="1400"/>
                </a:lnTo>
                <a:close/>
              </a:path>
              <a:path fill="darkenLess" w="107837" h="21600">
                <a:moveTo>
                  <a:pt x="107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37" y="20200"/>
                </a:lnTo>
                <a:close/>
              </a:path>
              <a:path fill="lighten" w="107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Why must we study the elements of fiction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54240" y="609480"/>
            <a:ext cx="7051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Elements of fictio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work like a puzzle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o put together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a story or novel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Plot is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what happens in the story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Some call it the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storyline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.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Theme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It’s the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moral or main idea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 of the story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Character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i="1" lang="en-US" sz="3400" spc="-1" strike="noStrike">
                <a:solidFill>
                  <a:srgbClr val="ffff00"/>
                </a:solidFill>
                <a:latin typeface="Comic Sans MS"/>
              </a:rPr>
              <a:t>main character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 in a story is called the </a:t>
            </a:r>
            <a:r>
              <a:rPr b="1" i="1" lang="en-US" sz="3400" spc="-1" strike="noStrike">
                <a:solidFill>
                  <a:srgbClr val="ffff00"/>
                </a:solidFill>
                <a:latin typeface="Comic Sans MS"/>
              </a:rPr>
              <a:t>protagonist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.  She or he is always involved in the main conflict and its resolution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person working against the protagonist</a:t>
            </a: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 is called the 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antagonist</a:t>
            </a: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.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Setting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The setting provides us with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when</a:t>
            </a:r>
            <a:r>
              <a:rPr b="1" i="1" lang="en-US" sz="32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and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where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the story took place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In addition,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context or historical background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in which the story is set provides us with additional plot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Point of View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First Person: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narrator tells the story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s a character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in the story. </a:t>
            </a:r>
            <a:r>
              <a:rPr b="1" i="1" lang="en-US" sz="3000" spc="-1" strike="noStrike">
                <a:solidFill>
                  <a:srgbClr val="eaeaea"/>
                </a:solidFill>
                <a:latin typeface="Comic Sans MS"/>
              </a:rPr>
              <a:t>(Pronouns:  I, me, us, we, our, etc.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Person:  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rrator is not a character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 in the story bu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tell you the thoughts and actions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characters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. 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(Pronouns:  he, she, him, her, they, them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Theme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writer’s message, or main point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, is the theme of his or her literary work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Looking for a theme helps you look more deeply into the literature and makes for more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njoyable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reading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You will need to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mic Sans MS"/>
              </a:rPr>
              <a:t>infer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what the theme is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from the work’s title, key scenes, characters, symbols, and plot event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22:42:42Z</dcterms:created>
  <dc:creator>csifreak</dc:creator>
  <dc:description/>
  <dc:language>en-US</dc:language>
  <cp:lastModifiedBy>ITEC Department</cp:lastModifiedBy>
  <dcterms:modified xsi:type="dcterms:W3CDTF">2011-01-21T21:38:01Z</dcterms:modified>
  <cp:revision>6</cp:revision>
  <dc:subject/>
  <dc:title>Elements of Fiction</dc:title>
</cp:coreProperties>
</file>